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5D1-C803-493B-86FA-351A6C2A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829E-6856-4CAB-8797-4407577C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8443-31B8-4088-A745-5CEC3EE9D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483D-3616-4647-A143-322D5239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C197-B1FE-4091-9446-0C5DEE9B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C57C-A7FD-4AD7-BAF5-D376FBB2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221B-D62A-4A39-A775-0819DF43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D101-059D-4C3D-8B72-DEAC9849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382D-4C9E-48A1-9385-6829D84A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2180-898C-4797-A25B-608345C5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3887-78E4-4C15-AD61-D2597469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BB37-EB00-441B-9BD4-CECC6B8E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A4D9-941B-4023-99C2-1426346944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работа 2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Описание одного из климатических поясов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боты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представления об одном из климатических поясов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520" y="1531440"/>
            <a:ext cx="3313080" cy="2760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дание 1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контурную карту мира, перенести и подписать все климатические пояса мира: 1.Арктический, 2.субарктический, 3.умеренный, 4.субтропический, 5.тропический, 6.субэкваториальный, 7.экваториальный, 8.субантарктический,                              9. антарктическ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67640" y="4630680"/>
            <a:ext cx="321804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2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полните таблиц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Таблица 5" descr=""/>
          <p:cNvPicPr/>
          <p:nvPr/>
        </p:nvPicPr>
        <p:blipFill>
          <a:blip r:embed="rId1"/>
          <a:stretch/>
        </p:blipFill>
        <p:spPr>
          <a:xfrm>
            <a:off x="420840" y="5048280"/>
            <a:ext cx="8339040" cy="159048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6"/>
          <p:cNvSpPr/>
          <p:nvPr/>
        </p:nvSpPr>
        <p:spPr>
          <a:xfrm>
            <a:off x="3852720" y="1557360"/>
            <a:ext cx="5148360" cy="323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План характеристика климатического поя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.наз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.положение относительно экватора и полюс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.господствующие воздушные масс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.средняя температура января и июл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5.годовое количество осад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6.климитические различия и их причин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7.приспособленность населения к климатическим условиям данного пояс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7"/>
          <p:cNvSpPr/>
          <p:nvPr/>
        </p:nvSpPr>
        <p:spPr>
          <a:xfrm>
            <a:off x="3348000" y="120024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Ход рабо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16:45:18Z</dcterms:created>
  <dc:creator>xxx</dc:creator>
  <dc:description/>
  <dc:language>en-US</dc:language>
  <cp:lastModifiedBy>Пользователь</cp:lastModifiedBy>
  <cp:lastPrinted>2017-11-06T18:55:24Z</cp:lastPrinted>
  <dcterms:modified xsi:type="dcterms:W3CDTF">2017-11-06T18:55:58Z</dcterms:modified>
  <cp:revision>4</cp:revision>
  <dc:subject/>
  <dc:title>Практическая работа 3. Тема: Описание одного из климатических поясов. Цель работы: Сформировать представления об одном из климатических поясов.</dc:title>
</cp:coreProperties>
</file>